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016F-F535-40BC-9B75-C6861EFA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A6CC-C42F-4CB8-9B9A-3286D84C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8275-A73D-43E2-9EE7-CBD33FB6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4566-CC02-4768-85A5-617408D7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3CDA-0731-4851-9068-46E5E8ED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50C3-2199-4B22-B980-851DC0DC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A491-CA6E-44A7-8AD4-4435E0B3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F0B4-4EC0-490E-A339-204C018F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703E-C646-401F-B2F6-C4EEF174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785D-6FD5-4B89-89D3-148E75E3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F79F-A737-4BDC-AD7F-30D229A0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9C5B-B644-4A89-BA9F-D303E2C6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4816-5F73-45EF-8E11-92C493E9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BE1F-9C4A-4B7F-A151-56B12A23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4317-2BB5-4992-82AC-E27444F5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485C-1F6B-4CAD-A1FC-8CC26D50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26B6-AA4D-46C0-AC54-1D45628D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F9F1C-D32A-4CDC-85A7-0F58820C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53CD0-1521-4399-B8ED-9C327D3C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1E8C2-061E-40B6-ABA6-D699A677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41405-8D33-4A7D-9DDB-AA494E87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5146B-0E4A-4D33-985E-BA1F75F3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700-BBB3-449E-9F12-F700209F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31E83-0F7F-46B2-9EB0-BED43FEE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F9D19-FC2A-4FF7-BE75-3D1AB2FC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4B5AF-9E91-42F2-BE53-0727B855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9C1C2-0C7E-4AEF-824D-8AC4FCEF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4DF06-8907-4A9C-B1C1-9AECE810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4A86F-4514-48EB-87D1-BA4D3898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ABB9D-FD5B-426D-A7C9-741F19A8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A1673-84BF-468D-BBB0-FB5FD5A0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C7C7B-21CF-438D-9D0E-AAA6D86C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A01D3-7F0C-4768-A7A2-BBDB1154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7577-1DBE-49D0-8DBF-47F03D4C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79E11-BDB6-41FB-BD66-168137BD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9D4B2-7C67-45FF-8670-226F8FD1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CD2C5-50D1-4663-BB4C-6AE0D43E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51C46-A291-4F14-80BA-C09289ED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8009D-C44A-43F8-B4C8-208889EE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83854-F519-47E0-93E3-07B972C6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75B60-4AC7-493D-B4A3-ADCA6585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31003-5EF5-4BF0-80B7-7CB6F375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AB787-4758-478A-A49C-E4047D39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5BED-20BF-428B-A5C2-FFC9E4FF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AE46-007D-4EB2-97C7-646E85B6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E29A-2241-459A-B420-C493C041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A3C3-0B82-407C-BA8E-B918873C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6A79-C104-4D9F-B372-1DB9FD93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4902-0DE3-4CEE-B078-B64395B373D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B16A-C75C-42E6-B58A-8CC5B5C0276B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5247-FAAD-4E8C-B250-7A1EF6540FD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E93B-6645-4B4E-989D-2D9AEEFA93C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02 18 08 001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Feeding the Family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(UK and Hungar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bfbfbf"/>
                </a:solidFill>
                <a:latin typeface="Calibri"/>
              </a:rPr>
              <a:t>Megan Blak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bfbfbf"/>
                </a:solidFill>
                <a:latin typeface="Calibri"/>
              </a:rPr>
              <a:t>Jody Mell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bfbfbf"/>
                </a:solidFill>
                <a:latin typeface="Calibri"/>
              </a:rPr>
              <a:t>Lucy Cra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bfbfbf"/>
                </a:solidFill>
                <a:latin typeface="Calibri"/>
              </a:rPr>
              <a:t>Brigitta Osz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02 28 08 Bradford wholesale market 024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Aims of Researc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10253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o understand how families create the conditions that inform food practic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o understand the ways that food practices inform family practi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03 19 08 Bradford wholesale market 003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214200" y="214200"/>
            <a:ext cx="8572680" cy="6429600"/>
          </a:xfrm>
          <a:prstGeom prst="rect">
            <a:avLst/>
          </a:prstGeom>
          <a:solidFill>
            <a:srgbClr val="17375e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Method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8760" y="114264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UK Da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785600"/>
            <a:ext cx="40402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Location- small, affluent town in West Yorkshi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Life histories – 36 women from a professional organis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Visits to food retailers and wholesale mark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Repeat Interviews with adult members of 8 families at different stages in the life course. Food diar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All white, native, middleclass households, females all employed at least part tim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3280" y="114264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Hungarian Da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4720" y="1785600"/>
            <a:ext cx="40417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Location—large university town in Southern Hungar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Life histories –12 women from a professional organis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Visits to local food retailers and farmers mark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Repeat interviews with adult members of 6 families at different stages of the life course.  Food diar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At least one householder either in or training for a professional occupation, females all employed, all white nativ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8" descr="03 20 08 169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9"/>
          <p:cNvSpPr/>
          <p:nvPr/>
        </p:nvSpPr>
        <p:spPr>
          <a:xfrm>
            <a:off x="0" y="357120"/>
            <a:ext cx="9144000" cy="6143760"/>
          </a:xfrm>
          <a:prstGeom prst="rect">
            <a:avLst/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Findings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Gender division, but not entirely the domain of fema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alibri"/>
              </a:rPr>
              <a:t>Provisioning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alibri"/>
              </a:rPr>
              <a:t>Cooking and Eating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8" descr="06 28 08 084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Provisioning: </a:t>
            </a:r>
            <a:br>
              <a:rPr sz="40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Important differences between the UK and Hunga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urchased food—little self provision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lanned “Big shop” with top up if needed—children contribut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Middle class can accommodate BOGOF dea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Locally farmed produce unavailab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pecial food/Ordinary food distinc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Local not loyal shopp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rice/convenience/qua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hopping is skill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Purchased food weekly, but also provisioned from a farmer who is often a relativ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Food that is stored is home preserved food not tinned or branded fo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pecial dishes, not special fo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8" descr="06 28 08 099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Cooking and eating: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Time, circumstance, and die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Adult dinner parties perform an important social function for childre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Cooking with ingredients or assembling is common and done daily, but rarely fully planned in adva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Cooked vegetables are often a side dis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0" i="1" lang="en-GB" sz="2000" spc="-1" strike="noStrike">
                <a:solidFill>
                  <a:srgbClr val="ffffff"/>
                </a:solidFill>
                <a:latin typeface="Calibri"/>
              </a:rPr>
              <a:t>Family Meal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changes as circumstances of individual family members chang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weets are given to children as a way to buy time to coo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44720" y="2174400"/>
            <a:ext cx="404172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Do not entertain others at home with a me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Cooking with raw ingredients is done weekly and leftovers are expected, children and men involv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tews and thick soups are standard fare, and planned in advanc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Cooked vegetables are rarely served as a side dis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Families eat together out of convenience or as a special irregular/infrequent celebr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weets are given to children as a snac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Implic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2880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rovisioning is a skilled activity that is shaped by the circumstances of individuals and by geographical contex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hould be taught to boys and girls alongside cooking and meal planning in secondary school to reduce food waste and increase knowledge about food valu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urchasing decisions are made rationally within the context of the famil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More knowledge about self provisioning is needed and more land made availab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Meals with others perform an important role in the socialisation of children in the U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Not as important in Hungary where there is no school choice and where children do not socialise in the same way as UK childre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Has implications for the social mobility of lower income group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Implications (cont.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alibri"/>
              </a:rPr>
              <a:t>Although families were not eating Bisto type family meals, they still ate together when it was practical, and view this eating as an important part of being a family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alibri"/>
              </a:rPr>
              <a:t>Food provisioning and cooking are family activities: Women may perform a lot of the food related activities, but how they do these activities is informed  and facilitated by other family member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alibri"/>
              </a:rPr>
              <a:t>People provision, cook and eat differently in different cultures, more research is need amongst ethnic minority groups in the UK and which compares practices across national contexts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3:48:13Z</dcterms:created>
  <dc:creator>Megan</dc:creator>
  <dc:description/>
  <dc:language>en-US</dc:language>
  <cp:lastModifiedBy>Gg1xjp</cp:lastModifiedBy>
  <dcterms:modified xsi:type="dcterms:W3CDTF">2008-10-17T11:56:35Z</dcterms:modified>
  <cp:revision>45</cp:revision>
  <dc:subject/>
  <dc:title>Feeding the Family (UK and Hungary)</dc:title>
</cp:coreProperties>
</file>