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95C4-F881-48CA-A736-D06C0F20A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A9D1-5BDD-47EF-BE68-466A98A88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FA998-4B67-4260-B812-B874E2ADA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D3366-CC99-4355-B9E3-FB96F64DA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8EEE0-9FE5-4A00-A294-C94D9E0CD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74B13-75D6-4357-B93E-3978FA60C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EE867-B45A-4FDD-9153-932CE099B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71D8C-9CE0-411A-8AE9-06E76D1A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80228-4353-4E15-B12D-327EF58F4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041A-8CF2-4394-AF57-AA43591B4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34C9E-C8FA-4F5E-803B-1468B6E2A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6172-891F-43AE-8D14-8415C338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3664A-7A0C-4ACF-AF37-FBB74551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185C3-8E08-4342-B4D5-3FE092CD7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A5752-C224-4AA0-8E8C-27414F3EE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D96E2-A4BD-40BE-B381-F30E02529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E4042-AE6D-4CCD-9662-6540860F0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2418E-775E-417C-8FB2-4FBFA56A3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7777D-54E1-45BA-ACDF-6420B246D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B7E23-E271-4266-9354-17C9139F8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88F64-B944-42EB-9527-8EA0E1025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95A0C-7F97-4A03-9290-A0DC12DF8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8DC8-69BA-47FF-B747-02B50B561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AC137-C608-441E-A6D1-70A52E59D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20DD3-8F1B-47FF-891D-932FCAA47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42E9B-154E-4232-A2E3-697AB3E64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933F9-4995-43CA-8E6A-BF386BBF9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C90D0-2EE4-42EA-A3D7-D5CB05078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38372-4C95-4051-A9FC-A867C7F7C9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F2533-1049-4512-ACF9-388D1C3FF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4487F-7DA8-4593-BE00-C022EBE67C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6B944-94F5-4063-B7E3-8DF163E48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35EB7-C92E-437E-A830-93C0548C0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DFF5-E874-4B89-AE72-551CC075B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BFE88-4AC8-4F8B-ADE1-6DB484D57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B7F0C-BC4D-443E-B077-828B8F0E8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D6B06-3355-46EB-A769-6BDCDFC3D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2C2D6-65F2-4221-8ACC-2A7B20703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5F4E0-5F39-4A7E-9FE4-B30054302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082F6-D04A-4E96-8505-EF4AE481A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6D4F6-9C99-4B23-B88D-6385E1D77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FD86D-FBDD-4E71-87BD-2C24C05C7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45C96D-642E-424E-B7AC-77AD33399F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1542B-841C-447C-ACCD-17437C37B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D79A-8FDC-485E-8BE1-D17DEFB5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F9D56-9536-4407-842F-C88B0D47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A517-75DA-4585-A44B-9D15FB6A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9D859-BA06-4AFE-9C86-B74414417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9B1B-26AF-4867-B40D-850F73BE0A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80EB-2153-4E76-95AF-3EBC76DAD23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0B66-9E70-44A1-A100-F476EB66149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75AC-0CC1-4E49-BCA3-0414C6D7667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1206360"/>
            <a:ext cx="8229600" cy="1573200"/>
          </a:xfrm>
          <a:prstGeom prst="rect">
            <a:avLst/>
          </a:prstGeom>
          <a:ln w="0">
            <a:noFill/>
          </a:ln>
        </p:spPr>
      </p:pic>
      <p:sp>
        <p:nvSpPr>
          <p:cNvPr id="196" name="PlaceHolder 1"/>
          <p:cNvSpPr>
            <a:spLocks noGrp="1"/>
          </p:cNvSpPr>
          <p:nvPr>
            <p:ph type="subTitle"/>
          </p:nvPr>
        </p:nvSpPr>
        <p:spPr>
          <a:xfrm>
            <a:off x="1371600" y="2999880"/>
            <a:ext cx="6400800" cy="26384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Professor Paula Nicols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r Rebekah Fox</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r Kristin Heffern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oyal Holloway, University of Lond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Finding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xpectations regarding pregnancy and body image have also changed over time, in the light of new forms of maternity fashion, increased media attention and the rise of the ‘celebrity mum’. Women of the ‘my self’ generation feel more confident to wear fashionable or revealing clothes during pregnancy than their own mothers, however this is coupled with increased pressures regarding body size and shap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Rebekah: </a:t>
            </a:r>
            <a:r>
              <a:rPr b="0" lang="en-GB" sz="2600" spc="-1" strike="noStrike">
                <a:solidFill>
                  <a:srgbClr val="000000"/>
                </a:solidFill>
                <a:latin typeface="Constantia"/>
              </a:rPr>
              <a:t>Did you ever worry about your body and how it had change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Jackie: </a:t>
            </a:r>
            <a:r>
              <a:rPr b="0" lang="en-GB" sz="2600" spc="-1" strike="noStrike">
                <a:solidFill>
                  <a:srgbClr val="000000"/>
                </a:solidFill>
                <a:latin typeface="Constantia"/>
              </a:rPr>
              <a:t>Mmm… what do you mean exactly?</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Rebekah: </a:t>
            </a:r>
            <a:r>
              <a:rPr b="0" lang="en-GB" sz="2600" spc="-1" strike="noStrike">
                <a:solidFill>
                  <a:srgbClr val="000000"/>
                </a:solidFill>
                <a:latin typeface="Constantia"/>
              </a:rPr>
              <a:t>Well you know, your bum or stomach or your hip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Jackie: </a:t>
            </a:r>
            <a:r>
              <a:rPr b="0" lang="en-GB" sz="2600" spc="-1" strike="noStrike">
                <a:solidFill>
                  <a:srgbClr val="000000"/>
                </a:solidFill>
                <a:latin typeface="Constantia"/>
              </a:rPr>
              <a:t>Hips? (Rubbing her hands over them) Oh… well I suppose so… yes. I never really thought about that. It didn’t cross my mind. I wasn’t keen on my stretch marks but I didn’t really worry too much about my body – I don’t think it was such an issue back then (Janice, 65)</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know that when other women have had babies at school and gone back the teachers are quite bitchy and say ‘oooh she hasn’t lost her weight has she? And I know they’re going to talk like that about me which worries me a bit, because my hips are still massive and I’ve got this horrible ‘mum bum’ (Emma, 27)</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felt everybody commented on my body after pregnancy. People never commented on my body before, but suddenly everybody did. So I can understand that women want to get back to their old shape as quickly as possible! (Marie, 2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Finding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vice regarding infant feeding practices has also changed over time, with women of the ‘my mother’ generation discouraged from breastfeeding and feeling uncomfortable to do this in a public situation. Today breastfeeding is actively encouraged via government healthy eating campaigns, however this leads to new ‘moral geographies’ of  ‘good’ and ‘bad’ motherhood, with women made to feel like ‘failures’ where they are unable or unwilling to breastfe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t the time breast-feeding wasn’t really the done thing amongst my social circle, I felt like a bit of a freak and I wouldn’t have dared to do it in public so I was pretty much tied to the house for most of the time. When I was in the hospital the midwives weren’t very supportive and kept saying ‘why don’t you give her a bottle dear so you can get some sleep’ (Cath, 60)</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 wouldn’t say they encourage you to breastfeed; it’s much stronger than that – you’re made to feel like the devil if you don’t want to! (Sophie, 24)</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ublications</a:t>
            </a:r>
            <a:endParaRPr b="0" lang="en-US" sz="5000" spc="-1" strike="noStrike">
              <a:solidFill>
                <a:srgbClr val="04617b"/>
              </a:solidFill>
              <a:latin typeface="Calibri"/>
            </a:endParaRPr>
          </a:p>
        </p:txBody>
      </p:sp>
      <p:sp>
        <p:nvSpPr>
          <p:cNvPr id="224"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ox, R, Heffernan, K and Nicolson, P (2008) ‘It wasn’t such an issue back then: Changing experiences of pregnancy across two generations of women in South-East England’ </a:t>
            </a:r>
            <a:r>
              <a:rPr b="0" i="1" lang="en-GB" sz="2600" spc="-1" strike="noStrike">
                <a:solidFill>
                  <a:srgbClr val="000000"/>
                </a:solidFill>
                <a:latin typeface="Constantia"/>
              </a:rPr>
              <a:t>Gender, Place and Culture,</a:t>
            </a:r>
            <a:r>
              <a:rPr b="0" lang="en-GB" sz="2600" spc="-1" strike="noStrike">
                <a:solidFill>
                  <a:srgbClr val="000000"/>
                </a:solidFill>
                <a:latin typeface="Constantia"/>
              </a:rPr>
              <a:t> In Pr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ctl00_ctl00_MainContentHolder_PageContentHolder_CoverImage" descr="http://images.condenastinteractive.co.uk/cgi-bin/GPAOnline2/id/765178/Class/ShowsLarge/MarkupName/-/v/o/765178.jpg"/>
          <p:cNvPicPr/>
          <p:nvPr/>
        </p:nvPicPr>
        <p:blipFill>
          <a:blip r:embed="rId1"/>
          <a:stretch/>
        </p:blipFill>
        <p:spPr>
          <a:xfrm>
            <a:off x="4970520" y="1920960"/>
            <a:ext cx="3394080" cy="44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ublications</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ox, R, Nicolson, P and Heffernan, K (2009) ‘Pregnancy Police? Maternal bodies, surveillance and food’ in P. Jackson (ed) </a:t>
            </a:r>
            <a:r>
              <a:rPr b="0" i="1" lang="en-GB" sz="2600" spc="-1" strike="noStrike">
                <a:solidFill>
                  <a:srgbClr val="000000"/>
                </a:solidFill>
                <a:latin typeface="Constantia"/>
              </a:rPr>
              <a:t>Changing Families, Changing Food</a:t>
            </a:r>
            <a:r>
              <a:rPr b="0" lang="en-GB" sz="2600" spc="-1" strike="noStrike">
                <a:solidFill>
                  <a:srgbClr val="000000"/>
                </a:solidFill>
                <a:latin typeface="Constantia"/>
              </a:rPr>
              <a:t>. Basingstoke: Palgrave-Macmillan, in press.</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Mother, My Self and My Doctor. The Psychological Impact of Advice on Feeding the Maternal and Infant Body Across Recent Generations. </a:t>
            </a:r>
            <a:r>
              <a:rPr b="0" i="1" lang="en-GB" sz="2600" spc="-1" strike="noStrike">
                <a:solidFill>
                  <a:srgbClr val="000000"/>
                </a:solidFill>
                <a:latin typeface="Constantia"/>
              </a:rPr>
              <a:t>Journal of Community and Applied Social Psychology. </a:t>
            </a:r>
            <a:r>
              <a:rPr b="0" lang="en-GB" sz="2600" spc="-1" strike="noStrike">
                <a:solidFill>
                  <a:srgbClr val="000000"/>
                </a:solidFill>
                <a:latin typeface="Constantia"/>
              </a:rPr>
              <a:t>Under review.</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oject Summary</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project takes an inter-generational approach to explore the ways in which women manage their eating and identities in relation to both ‘expert’ advice and personal body image over the transition to motherhood. Drawing upon the experiences of recent mothers and their own mothers in South-East England we examine changing perceptions of pregnancy, diet, body image and motherhood over the past forty year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question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Has the experience of pregnancy become more ‘medicalised’ during the late twentieth / early twenty-first century? How is this linked to the ‘medicalisation’ of women’s bodies and types of ‘treatment’ and care given?</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What advice is given to women in the pre and post natal periods? How has this advice changed over time and how does it affect women’s ‘lifestyle’ and eating habit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Where do women gain advice about pregnancy / child-rearing especially in relation to food (guidebooks, medical professionals, family and friends) and how do they make decisions about the validity of this advic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How do women perceive changes in their bodies during and after pregnancy? How is this linked to dominant cultural perceptions of beauty and motherhood and how have such expectations changed over time?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Method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ail survey of approximately one hundred mothers (both recent and those of earlier generations) containing open-ended questions relating to diet, health and advice during pregnanc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depth interviews with eleven new mothers and seven of their own mothers (others were either deceased, lived abroad or declined to take par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omen were given the choice to be interviewed together or separately and covered a range of topics including pre-natal care, diet and lifestyle, body image and infant feeding practices, with interviews lasting between forty-five minutes and three hour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Finding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xperiences of pregnancy in Britain have become more ‘medicalised’ over the past forty years, both in terms of available care (e.g. scans) and constantly changing advice relating to food and lifesty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y doctor advised me to drink raw egg mixed into a glass of full fat milk every day as the best source of protein – Sarah (daughter) was horrified when I told her this because of course today we know all about the dangers of salmonella. We weren’t so well-informed as our daughters are today (Janice, 65)</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re’s all this pressure, don’t do this, don’t do that, oh look she’s doing it this way; she should be doing it this way. She should be eating only organic and never smoking a fag and...blah, blah, blah and it really gets to you because everyone, I mean EVERYONE, has something to say (Jess, 2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Finding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day’s mothers are subject to constant surveillance of their diet, lifestyle and behaviour during pregnancy, with a variety of foods (in addition to alcohol and tobacco) now deemed to be harmful to the unborn foetus. Women who fail to follow such advice find themselves open to potential criticism from friends, family, medical professionals and even complete strangers, to an extent where such guilt becomes internalised as a specific form of self-surveillance and contro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e used to call them the pregnancy police. There were quite a few girls pregnant at work at the same time as me and its unbelievable how much people think they have the right to interfere. One of my colleagues refused to eat lunch with me because I was having a tuna sandwich and he said it was harmful to the baby. Then once I went into Boots to buy some hair dye and the woman behind the counter said ‘is it for you?’ and she wouldn’t sell it to me because I was pregnant. Another colleague went into the hairdressers and the same thing happened to her because the hairdresser said the other customers would complain. (Kirsty, 36).</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search Finding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omen are not merely passive recipients of such advice, but actively seek out information</a:t>
            </a:r>
            <a:r>
              <a:rPr b="1" lang="en-GB" sz="2600" spc="-1" strike="noStrike">
                <a:solidFill>
                  <a:srgbClr val="000000"/>
                </a:solidFill>
                <a:latin typeface="Constantia"/>
              </a:rPr>
              <a:t> </a:t>
            </a:r>
            <a:r>
              <a:rPr b="0" lang="en-GB" sz="2600" spc="-1" strike="noStrike">
                <a:solidFill>
                  <a:srgbClr val="000000"/>
                </a:solidFill>
                <a:latin typeface="Constantia"/>
              </a:rPr>
              <a:t>via midwives, family, friends, books and the internet, balancing ‘scientific’ or ‘expert’ recommendations with their own ‘embodied knowledge’ such as food cravings, particularly during second / subsequent pregnan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6:27:04Z</dcterms:created>
  <dc:creator>oskar</dc:creator>
  <dc:description/>
  <dc:language>en-US</dc:language>
  <cp:lastModifiedBy>Gg1xjp</cp:lastModifiedBy>
  <dcterms:modified xsi:type="dcterms:W3CDTF">2008-10-20T08:27:15Z</dcterms:modified>
  <cp:revision>25</cp:revision>
  <dc:subject/>
  <dc:title>Slide 1</dc:title>
</cp:coreProperties>
</file>