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8E37-7306-4AB8-8BB1-4CC3CD778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84D7-6A7E-4EB1-BCF2-289F2487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6566-108F-4123-A3C9-030ADA46C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0704-E5CD-4485-82F5-82BF0F733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D0E7-B816-49FB-BD15-02F742E1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F344-0AEB-4547-A48B-1B00D002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6C14-624D-4CD6-83E7-6FF457E6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3595-4430-4661-89F6-AD093BD5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F542-92DA-431C-A632-0D5E6556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155E-51FA-4C51-9AB2-FC725AF8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3ADC-BA26-4614-AFD5-AF5827B5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2FFB-5400-4DA0-A0B6-1EA28797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D2C1-40D3-4AA3-825E-2D3F1B3DF2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228600" y="171360"/>
          <a:ext cx="8686800" cy="65152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1360"/>
                    <a:ext cx="8686800" cy="651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Text Box 3"/>
          <p:cNvSpPr/>
          <p:nvPr/>
        </p:nvSpPr>
        <p:spPr>
          <a:xfrm>
            <a:off x="2172600" y="2209680"/>
            <a:ext cx="4908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od choice and family contex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r. L. Blan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r. P. Bisse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r. E. Goyder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132120" y="152280"/>
            <a:ext cx="902916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 do all the cooking. Not strictly true because my children cook. My husband doesn’t cook. Beans on toas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r toast and a fried egg” (AA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well I think it’s just probably down to the way he was bought up, he didn’t have to cook at home becau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is mum always did it so he never had to learn and he didn’t do the leaving home going to University th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where he had to fend for himself so he kind of left home and came with me and to be honest when we firs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got married he did used to have a go but he’s not the best, he hasn’t grasped the timing situation and tha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ort of thing” (AO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s I say I don’t really worry about it too much because they don’t get a choice of breakfast, they have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breakfast that they’re given and they have the dinner that they’re given. So actually if they choose to h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junk [at lunch time] or not eat too well,” (CJ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ey take a pack-up because I don’t want them eating rubbish and I know that they would. I know that th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would. I don’t know if my kids go to school and eat everything that I give them but I know that I give the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e stuff that they like so there’s more chance that they’re gonna eat it” (AH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Well yeh and all his friends have dinners as well so I wouldn’t want to, I wouldn’t want to isolate him b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aving a pack-up cos a lot of children at the comprehensive don’t do that” (HA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h yeh definitely oh yeh it is. I’ll wait till, I’ll take this little one to nursery and then I’ll yeh, I like to d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e shopping on my own” (AH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228600" y="171360"/>
          <a:ext cx="8686800" cy="65152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1360"/>
                    <a:ext cx="8686800" cy="651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Text Box 3"/>
          <p:cNvSpPr/>
          <p:nvPr/>
        </p:nvSpPr>
        <p:spPr>
          <a:xfrm>
            <a:off x="898560" y="202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Object 2"/>
          <p:cNvGraphicFramePr/>
          <p:nvPr/>
        </p:nvGraphicFramePr>
        <p:xfrm>
          <a:off x="228600" y="171360"/>
          <a:ext cx="8686800" cy="65152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1360"/>
                    <a:ext cx="8686800" cy="651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Text Box 3"/>
          <p:cNvSpPr/>
          <p:nvPr/>
        </p:nvSpPr>
        <p:spPr>
          <a:xfrm>
            <a:off x="575280" y="2092320"/>
            <a:ext cx="8597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tudy objective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is project sets out to explor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anging nature of food consumption within families living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ural South Yorkshire. The data is situated within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verall understanding of how families living in rural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pond to changing public and policy discourses about food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sign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mi-structured interviews with parents of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enage children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etting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60 families were interviewed between Mar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nd June 2007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2"/>
          <p:cNvGraphicFramePr/>
          <p:nvPr/>
        </p:nvGraphicFramePr>
        <p:xfrm>
          <a:off x="228600" y="171360"/>
          <a:ext cx="8686800" cy="65152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1360"/>
                    <a:ext cx="8686800" cy="651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Text Box 3"/>
          <p:cNvSpPr/>
          <p:nvPr/>
        </p:nvSpPr>
        <p:spPr>
          <a:xfrm>
            <a:off x="455040" y="1828800"/>
            <a:ext cx="7907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 families in rural areas understand and spea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bout food in every day lif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ural context is important to most fami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ve lifestyle choice and beneficial to their child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re rural = less likely to shop local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arming families = stronger feelings about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90360" y="325440"/>
            <a:ext cx="894384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e environment, our location, I think you just have a better way of life out in the country anyway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very shape and form. Oh yes its fabulous, it’s great for the children and I go running every day and i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beautiful, stunning. I see king fishers and herons and its beautiful I love it” (AH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 do actually, I think coming from a farming community and knowing a lot more about where food com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rom and how it’s grown and all the rest of it it probably does influence what we eat. Yeh, because I thin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at’s come from me because obviously, well I am a farmer’s daughter so we did use to farm, and w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rganically farmed as well. So yeh that has influenced me and obviously then the children the same ” (JB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r, possibly how I was bought up affects how I think about food to a certain extent because I wa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we were very rural where we were although it was a mining village we had got a lot of farms around u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nd I also studied farming at school I was lucky enough to have a farm at school so I was lucky enoug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o see all the animals and you know we sort of saw the slaughtering of a chicken but not a cow or anyth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But I think that sort of affects you, you need to think about how things are produced and how things l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ally so yeh that affects me……. and so personally I would like to support local farmers and so I d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ort of sometimes go to, I know the butchers over the hill uses local produce and things. And there is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arm shop now further away is it Hazel Farm or something?” (AL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rm, I think if there were buses it would because then I would use the bus and I would go to the neares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lace. But because you have to have a car no I don’t think from our point of view it does because we c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hoose to go and shop where we like. I think if the bus service was better then that would affect the way 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hop because I would use the bus and so generally that would mean that I would use Crosspool I think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t go to the supermarket. But because there aren’t any buses and you’ve got to get the car out then yo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ight as well go to Sainsbury’s” (CJ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228600" y="171360"/>
          <a:ext cx="8686800" cy="65152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1360"/>
                    <a:ext cx="8686800" cy="651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Text Box 3"/>
          <p:cNvSpPr/>
          <p:nvPr/>
        </p:nvSpPr>
        <p:spPr>
          <a:xfrm>
            <a:off x="72000" y="2016000"/>
            <a:ext cx="8649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w do families in rural areas position themselve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lation to dominant discourses about food consump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od and mealtimes fit around the family struc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cal produce - namely meat and animal produc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inked to concerns about food scares, factory farming,qua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ss linked to environmental consider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venience and ‘cooking from scratch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venience; where food is purcha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9440" y="120600"/>
            <a:ext cx="907632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Well for instance this evening the boys football train all together and we have to leave the house at fiv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o I cook them their meal for when they come home from school and then we’ll have ours later when w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get back” A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“…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.well for example on a Wednesday my husband goes running so we can’t all eat together and so I tend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give my children their meal a little bit earlier in the evening on a Wednesday and then my husband and I wil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at a little bit later and then on a weekend it just depends what various activities people are doing on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aturday” (AL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 don’t agree with this monopoly that Tesco have got or all the big chains have got. Because I just think it’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wful how they’re putting the squeeze on farmers. So I always have my doorstep milk delivered I won’t bu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ilk from supermarkets because half of it comes from abroad and you don’t know what’s in it so I like 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now that it’s coming from my local farmer. And it’s pasteurised now obviously but there was a time wh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t was coming un-pasteurised round this area but yeh now it’s always pasteurised” (AL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Well quality, and that’s why I like Crawshaws and we know what you get, it’s good quality food. And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ausages, I won’t, as family we won’t eat sausages from anywhere else. I won’t buy Walls or supermark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ausages. It’s always butchers sausages. And we have their burgers” (AC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 do both, I have a jar in the cupboard a jar of sauce which is for, well sort of like emergencies reall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Generally I make it and I always have the ingredients in. Most things I make from scratch but I have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uple of jars in. For example tomorrow I am going to be very late back from work so we’ll have someth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 can just throw together. But mostly I do pretty much everything from scratch” (AA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Well supermarkets most of the time yes….. well it’s convenient isn’t it? It’s just down the road so it’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asy. So yeh, convenience really” (AH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228600" y="171360"/>
          <a:ext cx="8686800" cy="65152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1360"/>
                    <a:ext cx="8686800" cy="651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Text Box 3"/>
          <p:cNvSpPr/>
          <p:nvPr/>
        </p:nvSpPr>
        <p:spPr>
          <a:xfrm>
            <a:off x="140400" y="1895400"/>
            <a:ext cx="8855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re food choices shaped by social, psychologi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other factors in addition to tastes and personal choi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aste, personal choice and quality, along with health; w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ntioned as the main reason for choosing food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veryone was aware of governments mess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cialising around food was primarily a family affai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aditional Sunday dinner still a key focus for many famil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ot influenced by advertising and the  medi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st was not importa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21600" y="76320"/>
            <a:ext cx="9099000" cy="70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rm, quality. I try, like meat, I use a local farm shop, I mean we can afford to do this so that does make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ifference” (AA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well I think its quite interesting what’s happened recently where suddenly everyone’s become aw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at there’s a lot of fat and a lot of salt and E factors and what ever else there is in food and I think yo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now people are slating McDonalds and people like that but they’ve probably been at the forefront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rying to change the way some of their products are sold to children in terms of you go in there no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nd you can get more healthy options and you know in the last couple of years they’ve started sell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alads so I think that good. But, you don’t see many people eating them when you go in there you te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o see people still having their big Mac and so on” (AF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Yeh, definitely the five a day. Five pieces of fruit and veg a day definitely has an influence although I kne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at already from working in, where I work [community midwife]. So I know all that but certainly adverti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 think pushes it to the children more and so the children have been more amenable to me sort of saying w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you know get your fruit” (AL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 not for me although I suspect it probably has for a lot of people. Yeh, but it hasn’t for me because that’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just something that I’ve felt like I want to carry on. And if we don’t have it at home here we’ll go to h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ums she’ll do Sunday dinner if we go there, or if we go out we’ll eat Sunday dinner but we’ll have 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ut” (AO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t was like that for me as a child and so its always been that way really and its something that I’ve tended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ick to even before we had the children and we always used to have a meal you know my husband and 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sed to have a meal on Sunday and now that we’ve got the children I think its even more important and lik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 said before it can be a very social occasion as well” (AL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, advertising, it wouldn’t influence me, not really. I don’t think so” (AO)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228600" y="171360"/>
          <a:ext cx="8686800" cy="65152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1360"/>
                    <a:ext cx="8686800" cy="651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Text Box 4"/>
          <p:cNvSpPr/>
          <p:nvPr/>
        </p:nvSpPr>
        <p:spPr>
          <a:xfrm>
            <a:off x="83520" y="2092320"/>
            <a:ext cx="8868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at influence do family members have over food choi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how is this influence negotiated in practic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Generally the mother was responsible for cooking and shopp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hildren did not get much say in the food that was provid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acked lunch for their children as an additional level of contr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chool meals allowed to fit in with their pe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hildren were sometimes intentionally excluded from shopp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13:34:49Z</dcterms:created>
  <dc:creator>Lindsay Blank</dc:creator>
  <dc:description/>
  <dc:language>en-US</dc:language>
  <cp:lastModifiedBy>Gg1xjp</cp:lastModifiedBy>
  <dcterms:modified xsi:type="dcterms:W3CDTF">2008-10-20T10:13:58Z</dcterms:modified>
  <cp:revision>21</cp:revision>
  <dc:subject/>
  <dc:title>PowerPoint Presentation</dc:title>
</cp:coreProperties>
</file>